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B53D-7CEB-49E5-8237-32C539C5A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9817-1B1F-4C19-A6F7-0D158C71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5E67-11F5-4F46-B029-BACF98D07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EBA4-2691-4A65-9DF6-93AB62E74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EFD8-42D2-4F01-921D-7CF18860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D9AA-4F20-4A70-BFFB-4997C992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E633-B7DE-4364-A38A-08211F99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82C9-82B2-4B47-9736-39580FC7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C822-4B43-4EF0-81BB-B6D3D94F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B3F1-0DE8-42FA-ABBE-ED7434F2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FA92-B9A7-4DB3-82B0-77F395F3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B2E4-0D7D-4DEC-A617-5926C126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10D8-20EE-438B-AED1-5971A33F1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hyperlink" Target="http://www.freeplaymusic.com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wmf"/><Relationship Id="rId3" Type="http://schemas.openxmlformats.org/officeDocument/2006/relationships/image" Target="../media/image4.jpe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236232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Rabbit and the Bird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2819520" y="51055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5140440"/>
            <a:ext cx="1616040" cy="1717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84920" y="0"/>
            <a:ext cx="1459080" cy="2195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362320" y="838080"/>
            <a:ext cx="4800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play music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usk til daw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/3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143000" y="7621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380880"/>
            <a:ext cx="883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It is better to prepare for the days ahea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ub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ack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0000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 fine summers day Rubin the rabbit was hopping through the forest and saw Jack the bird getting twi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2152440" cy="3238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3520" y="2971800"/>
            <a:ext cx="1616040" cy="1717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76520" y="3429000"/>
            <a:ext cx="1371600" cy="838080"/>
          </a:xfrm>
          <a:prstGeom prst="wedgeEllipseCallout">
            <a:avLst>
              <a:gd name="adj1" fmla="val -75462"/>
              <a:gd name="adj2" fmla="val 268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2743200"/>
            <a:ext cx="1295640" cy="1143000"/>
          </a:xfrm>
          <a:prstGeom prst="wedgeEllipseCallout">
            <a:avLst>
              <a:gd name="adj1" fmla="val -59805"/>
              <a:gd name="adj2" fmla="val 451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5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bin asked Jack if he wanted to play tag. Jack said I am getting ready for winter and I think you should do the sa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1616040" cy="171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172200" y="2209680"/>
            <a:ext cx="2152800" cy="3238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52480" y="2514600"/>
            <a:ext cx="1447920" cy="10666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 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15200" y="2743200"/>
            <a:ext cx="1828800" cy="16765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I am getting ready for w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bin said no I’m going to go and play Suit your self said jack. When winter came Rubin was so co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64200" y="2328840"/>
            <a:ext cx="2152800" cy="3238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862280" y="3060720"/>
            <a:ext cx="1616040" cy="1717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971800" y="3048120"/>
            <a:ext cx="1752480" cy="10666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la la la la la la la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400800" y="4191120"/>
            <a:ext cx="1382760" cy="922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7315200" y="4648320"/>
            <a:ext cx="762120" cy="653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0000ff"/>
            </a:gs>
            <a:gs pos="100000">
              <a:srgbClr val="ff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thinking maybe I should have listened to jack. When he sees Jack he hopped into his nest and slept for the rest of the wi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529320" y="2241720"/>
            <a:ext cx="2152800" cy="3238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660760" y="2739960"/>
            <a:ext cx="1616040" cy="1717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581280" y="2057400"/>
            <a:ext cx="1981440" cy="1143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should have list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5:58:27Z</dcterms:created>
  <dc:creator>install</dc:creator>
  <dc:description/>
  <dc:language>en-US</dc:language>
  <cp:lastModifiedBy>install</cp:lastModifiedBy>
  <dcterms:modified xsi:type="dcterms:W3CDTF">2011-05-09T15:53:44Z</dcterms:modified>
  <cp:revision>11</cp:revision>
  <dc:subject/>
  <dc:title>Slide 1</dc:title>
</cp:coreProperties>
</file>